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9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BA5AA-51E4-4E0B-A102-D617910736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4E1BB-40DF-4BA4-9CDE-CF69CBFC55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5919F-65B4-4D38-97F3-6CF57CA6FB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816E1-E1FD-45F4-A6C7-E1720B646E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26453-87DB-4545-8BFC-C5C8FA1427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B9C4C-F01D-47F1-801B-03D5F1A7E5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370AB-95ED-418E-8808-E75B1B7B39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B2079-62AA-49FD-B188-C91547238B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4DA38-1DED-47BC-8225-3F816A2A81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A781E-034A-4463-9BF7-0617407EAE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C4009-5B9B-4A28-AC6E-94EFBE9B0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4C3DD-D247-4E0A-9065-5611FD8F8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50A42-BA92-438B-BD99-4C24BE408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77A61-1F7C-4586-A7ED-89A65C510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05A5E-846A-4BE0-93BA-28D089974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109C6-A6CC-44C1-977E-2577B5306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AD679-B566-41C3-A072-14D3772AE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B20A5-8E3B-406D-9E81-A6B85B0E9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5CA93-0543-490E-A875-53851A79A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20998-5F5F-482C-8863-4F369E00B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FD2F4-E838-42A2-BC19-469BD061A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DAC36-762B-415A-80EE-7992B585D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D6D8E-B505-4B17-9ECB-B84151B100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22160" y="266688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ZA" sz="4400" spc="-1" strike="noStrike">
                <a:solidFill>
                  <a:srgbClr val="000000"/>
                </a:solidFill>
                <a:latin typeface="Arial"/>
              </a:rPr>
              <a:t>Monitoring Equipment Used in the Microbiology Laborat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3A6F4-39ED-42D1-9B8C-4E9A8B426040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434F8-A1A3-4714-A9F5-2AD8F9368A14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quipment - Microbi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itor temperatures o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ub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frige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eezer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form function checks fo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pet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cla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 m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ights and mea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ntain rec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6" descr="Incubator"/>
          <p:cNvPicPr/>
          <p:nvPr/>
        </p:nvPicPr>
        <p:blipFill>
          <a:blip r:embed="rId1"/>
          <a:stretch/>
        </p:blipFill>
        <p:spPr>
          <a:xfrm>
            <a:off x="6781680" y="1219320"/>
            <a:ext cx="2114640" cy="28191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Pipettes"/>
          <p:cNvPicPr/>
          <p:nvPr/>
        </p:nvPicPr>
        <p:blipFill>
          <a:blip r:embed="rId2"/>
          <a:stretch/>
        </p:blipFill>
        <p:spPr>
          <a:xfrm>
            <a:off x="6477120" y="4267080"/>
            <a:ext cx="2361960" cy="22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79471-2D65-4B4F-AACA-9BFF59AA5AA8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Object 2"/>
          <p:cNvGraphicFramePr/>
          <p:nvPr/>
        </p:nvGraphicFramePr>
        <p:xfrm>
          <a:off x="1220760" y="1600200"/>
          <a:ext cx="670248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0760" y="1600200"/>
                    <a:ext cx="670248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282E6-FCB3-4277-A665-204140CB00FC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eril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2"/>
          <p:cNvSpPr/>
          <p:nvPr/>
        </p:nvSpPr>
        <p:spPr>
          <a:xfrm>
            <a:off x="6783840" y="1295280"/>
            <a:ext cx="1458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ter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re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ater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3"/>
          <p:cNvSpPr/>
          <p:nvPr/>
        </p:nvSpPr>
        <p:spPr>
          <a:xfrm>
            <a:off x="6707520" y="4800600"/>
            <a:ext cx="1782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af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disposab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was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5"/>
          <p:cNvSpPr/>
          <p:nvPr/>
        </p:nvSpPr>
        <p:spPr>
          <a:xfrm>
            <a:off x="838080" y="1295280"/>
            <a:ext cx="15433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Prepa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re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ater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6"/>
          <p:cNvSpPr/>
          <p:nvPr/>
        </p:nvSpPr>
        <p:spPr>
          <a:xfrm>
            <a:off x="457200" y="4952880"/>
            <a:ext cx="297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Contaminated was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8" descr="Autoclave1"/>
          <p:cNvPicPr/>
          <p:nvPr/>
        </p:nvPicPr>
        <p:blipFill>
          <a:blip r:embed="rId1"/>
          <a:stretch/>
        </p:blipFill>
        <p:spPr>
          <a:xfrm>
            <a:off x="3124080" y="2362320"/>
            <a:ext cx="2286000" cy="3047760"/>
          </a:xfrm>
          <a:prstGeom prst="rect">
            <a:avLst/>
          </a:prstGeom>
          <a:ln w="0">
            <a:noFill/>
          </a:ln>
        </p:spPr>
      </p:pic>
      <p:sp>
        <p:nvSpPr>
          <p:cNvPr id="66" name="AutoShape 27"/>
          <p:cNvSpPr/>
          <p:nvPr/>
        </p:nvSpPr>
        <p:spPr>
          <a:xfrm>
            <a:off x="2666880" y="1676520"/>
            <a:ext cx="3886200" cy="83808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28"/>
          <p:cNvSpPr/>
          <p:nvPr/>
        </p:nvSpPr>
        <p:spPr>
          <a:xfrm>
            <a:off x="2666880" y="5105520"/>
            <a:ext cx="3886200" cy="83808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1F481-60B7-484C-A2A6-BCAF3F65E254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wo Stage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erilization Contro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73152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3300"/>
                </a:solidFill>
                <a:latin typeface="Arial"/>
              </a:rPr>
              <a:t>Process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hemical indic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acteriological indic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3300"/>
                </a:solidFill>
                <a:latin typeface="Arial"/>
              </a:rPr>
              <a:t>Sterile products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rowth t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B5DB8-C7D9-401E-80E5-BD80F26D93E9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rilization indica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3" descr="indicateurs-chimiques"/>
          <p:cNvPicPr/>
          <p:nvPr/>
        </p:nvPicPr>
        <p:blipFill>
          <a:blip r:embed="rId1"/>
          <a:stretch/>
        </p:blipFill>
        <p:spPr>
          <a:xfrm>
            <a:off x="1905120" y="1828800"/>
            <a:ext cx="2286000" cy="17146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" descr="indicateurs-biologiques"/>
          <p:cNvPicPr/>
          <p:nvPr/>
        </p:nvPicPr>
        <p:blipFill>
          <a:blip r:embed="rId2"/>
          <a:stretch/>
        </p:blipFill>
        <p:spPr>
          <a:xfrm>
            <a:off x="4952880" y="1676520"/>
            <a:ext cx="2514600" cy="19047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6" descr="mediawebserver"/>
          <p:cNvPicPr/>
          <p:nvPr/>
        </p:nvPicPr>
        <p:blipFill>
          <a:blip r:embed="rId3"/>
          <a:stretch/>
        </p:blipFill>
        <p:spPr>
          <a:xfrm>
            <a:off x="4876920" y="4114800"/>
            <a:ext cx="1623960" cy="16765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2" descr="ds_m_01_Autoclave2"/>
          <p:cNvPicPr/>
          <p:nvPr/>
        </p:nvPicPr>
        <p:blipFill>
          <a:blip r:embed="rId4"/>
          <a:stretch/>
        </p:blipFill>
        <p:spPr>
          <a:xfrm>
            <a:off x="2666880" y="457200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0" descr="autoclave%20tape%20steam"/>
          <p:cNvPicPr/>
          <p:nvPr/>
        </p:nvPicPr>
        <p:blipFill>
          <a:blip r:embed="rId5"/>
          <a:stretch/>
        </p:blipFill>
        <p:spPr>
          <a:xfrm>
            <a:off x="1066680" y="4038480"/>
            <a:ext cx="167652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Slide Number Placeholder 4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DBC59-6BEC-4B6E-9638-BC2E729818D9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erility Indica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343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Chemical indicator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mperature for sterilization have been met.  Do not address time or press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7960" y="1295280"/>
            <a:ext cx="426708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Arial"/>
              </a:rPr>
              <a:t>Biological indic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mperature, time and pressure for sterilization have been m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8"/>
          <p:cNvSpPr/>
          <p:nvPr/>
        </p:nvSpPr>
        <p:spPr>
          <a:xfrm>
            <a:off x="1371600" y="3962520"/>
            <a:ext cx="6477120" cy="213336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NOT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Neither indicator is a guarantee of sterilization i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Autoclave is overpack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Broth volumes are too lar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36AE2-E04D-4178-B880-69FABD10C432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"/>
          <p:cNvPicPr/>
          <p:nvPr/>
        </p:nvPicPr>
        <p:blipFill>
          <a:blip r:embed="rId1"/>
          <a:srcRect l="0" t="0" r="0" b="40007"/>
          <a:stretch/>
        </p:blipFill>
        <p:spPr>
          <a:xfrm>
            <a:off x="304920" y="1600200"/>
            <a:ext cx="8534160" cy="41148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rilization Logbo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6F760-24C6-40F8-AA5E-782F8FF13C04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crosco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4060_research_large"/>
          <p:cNvPicPr/>
          <p:nvPr/>
        </p:nvPicPr>
        <p:blipFill>
          <a:blip r:embed="rId1"/>
          <a:stretch/>
        </p:blipFill>
        <p:spPr>
          <a:xfrm>
            <a:off x="457200" y="1676520"/>
            <a:ext cx="3522600" cy="4016160"/>
          </a:xfrm>
          <a:prstGeom prst="rect">
            <a:avLst/>
          </a:prstGeom>
          <a:ln w="0">
            <a:noFill/>
          </a:ln>
        </p:spPr>
      </p:pic>
      <p:sp>
        <p:nvSpPr>
          <p:cNvPr id="89" name="Text Box 5"/>
          <p:cNvSpPr/>
          <p:nvPr/>
        </p:nvSpPr>
        <p:spPr>
          <a:xfrm>
            <a:off x="4114800" y="1677960"/>
            <a:ext cx="4343400" cy="448308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Keep lens 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Have at least one oil                          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immersion lens (X1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Use spring loaded l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Keep non-immersion lens free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of o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Do not allow sample to migrate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above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 the l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00ff00"/>
                </a:solidFill>
                <a:latin typeface="Arial Narrow"/>
              </a:rPr>
              <a:t>Maintain Kohler Illumination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 Narrow"/>
              <a:buChar char="•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2T03:48:55Z</dcterms:created>
  <dc:creator>Robin Barteluk</dc:creator>
  <dc:description/>
  <dc:language>en-US</dc:language>
  <cp:lastModifiedBy>WHO</cp:lastModifiedBy>
  <dcterms:modified xsi:type="dcterms:W3CDTF">2009-04-02T09:02:42Z</dcterms:modified>
  <cp:revision>2</cp:revision>
  <dc:subject/>
  <dc:title>Slide 1</dc:title>
</cp:coreProperties>
</file>